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DC9-ED6C-499E-8E51-C8C40653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4FE-B342-406E-8F49-ADD502E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B3D-C610-4908-953F-B165E1AC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D94-46F5-4F25-95BE-4318AB03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EE57-FA9C-4F83-A6E3-B1D5665A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8875-A6EC-450C-8B79-D94A5616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1716-F141-4569-A3C5-7681D70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923-5D6C-485B-A5B1-C872E65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F3BC-1AF8-4BBF-8EF9-07A9F35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B311-7830-4EFD-B6DB-60F836CD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CDB2-F3B0-4F41-AA0E-1500586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486-2F7E-4371-A5E6-A9923DB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6C0D-DF1C-43AC-8CD7-BC55C74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3251-A604-49DE-AE11-27E94C51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FE67-D7BF-4DD1-A9C5-51D03708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2521-6086-4980-8F90-F99BC4FC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9F63-DDE3-43C4-9726-480D74D2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38D-2D55-4231-86F9-93C16536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8C6-4FBF-4923-8C10-02AAE243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A52-A88E-4D51-A5FF-5E4805A7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F14-4C64-4CCE-B24C-77B406EE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12C-0828-4C06-BCF9-E9937185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4E5-3F7A-4106-8E1C-0F2F20A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BD9-07B1-4052-846F-8A18C77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A10-2FF6-476C-9542-21E3BA9687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4AAA-8F69-4452-AD72-C5C1E7ABFE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bers.aol.com/kaizensepg/deming.htm" TargetMode="External"/><Relationship Id="rId2" Type="http://schemas.openxmlformats.org/officeDocument/2006/relationships/hyperlink" Target="http://home.t-online.de/home/kfmaas/q_dem14.html" TargetMode="External"/><Relationship Id="rId3" Type="http://schemas.openxmlformats.org/officeDocument/2006/relationships/hyperlink" Target="http://www.managementwisdom.com/freilofdem14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r. William Edwards Dem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4080" y="3068640"/>
            <a:ext cx="1915920" cy="27367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844440" y="59641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00 - 19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93200" y="242100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Gone but never forgotte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ing’s philoso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663640" cy="18464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992880" y="2581200"/>
            <a:ext cx="718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your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ally seek to improve that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ok out for the people you are responsible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ognize that everyone is in this toget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ing’s 14 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3004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ancy of purp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 quality 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n’t buy on price tag al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ous impr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ining for ski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stitute leadershi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ive out f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ak down barri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iminate sloga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y in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ing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23800" indent="-523800"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mplish the trans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40" y="277920"/>
            <a:ext cx="6119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ontinuous improvem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376360" cy="1782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39640" y="2708280"/>
            <a:ext cx="794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3278160"/>
            <a:ext cx="863640" cy="93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3349800"/>
            <a:ext cx="0" cy="86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4213080"/>
            <a:ext cx="518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04560" y="440856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Improved Activities </a:t>
            </a: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◦</a:t>
            </a: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 Improved qual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Improved Productivity </a:t>
            </a: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◦</a:t>
            </a: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 Reduced Co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219280" y="3278160"/>
            <a:ext cx="863640" cy="936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20720" y="2341440"/>
            <a:ext cx="518328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2486160"/>
            <a:ext cx="5977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Improve constantly and fore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Search continually for problems</a:t>
            </a: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6640" y="572616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management’s job to work continual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2708280"/>
            <a:ext cx="794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7200" y="173664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Dem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43280" y="2608200"/>
            <a:ext cx="2981160" cy="2981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8000" y="277920"/>
            <a:ext cx="61196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ontinuous improv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376360" cy="1782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5651640" y="2781360"/>
            <a:ext cx="324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lan upfront for 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termine targets and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48690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ecute the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3280" y="479736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eck,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naly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280" y="2781360"/>
            <a:ext cx="275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ke action to improve or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tandardi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he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5280" y="277920"/>
            <a:ext cx="6119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nstitute leadershi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81560" y="333360"/>
            <a:ext cx="2638440" cy="2070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2865960" y="270828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Job of a supervis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5880" y="386064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ll workers what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nish them for not doing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66080" y="3860640"/>
            <a:ext cx="35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elp workers to do better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o learn by objective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573360"/>
            <a:ext cx="216072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116000" y="3573360"/>
            <a:ext cx="2016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5280" y="277920"/>
            <a:ext cx="6119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reak down barri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336600"/>
            <a:ext cx="2735280" cy="2030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826920" y="2997360"/>
            <a:ext cx="7129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operation is the word not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l benefit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am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6119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2205000"/>
            <a:ext cx="712944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rtic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Quality progress. March 1994. “</a:t>
            </a: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Gone but never forgotten”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. By Brad Stratt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iam News</a:t>
            </a: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. “The Three Careers of W. Edwards Deming”.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Michael J. Tortorel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Los Angeles Times. </a:t>
            </a: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The 50: People Who Most Influenced Business This Century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ebsites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ttp://www.deming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ttp://www.balancedscorecard.org/bkgd/pdca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members.aol.com/kaizensepg/deming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home.t-online.de/home/kfmaas/q_dem14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managementwisdom.com/freilofdem14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10:22:24Z</dcterms:created>
  <dc:creator> </dc:creator>
  <dc:description/>
  <dc:language>en-US</dc:language>
  <cp:lastModifiedBy> </cp:lastModifiedBy>
  <dcterms:modified xsi:type="dcterms:W3CDTF">2004-07-26T21:50:16Z</dcterms:modified>
  <cp:revision>11</cp:revision>
  <dc:subject/>
  <dc:title>Dr. W. Edwards Deming</dc:title>
</cp:coreProperties>
</file>